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839B-46A7-4360-938E-E2E72F4E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E3B9-B0A7-4138-8860-00C0CF13D7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F368-A427-4AD5-9090-D0E3575348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’s quote about the controversy over H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5D77-E087-4AEE-AED1-D96424B350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s: http://news.bbc.co.uk/olmedia/1730000/images/_1730414_sung_ap_150.jpg http://www.carnegieendowment.org/newsletters/images/2006-10-18/nkorea_nucleartest1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eativeenergy.org/images/jimmy_carte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http://www.fpif.org/briefs/vol4/v4n15nk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1B7E-2886-4C6C-9225-F12A61ED3F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ews.bbc.co.uk/1/hi/world/asia-pacific/161513.st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bs.org/newshour/bb/asia/northkorea/images/north-korea-missile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9A3-1383-46ED-B4EC-FF9B3D6E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EAF-29C0-4341-9D48-052B24EE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6B9-3EB8-476B-8B06-F885C72C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4D2-DB20-4C2B-B027-96602DCB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BE0-F507-4379-91EC-6003034A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4DD-65EB-4565-8079-EFC3F8C3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049-38DF-4C24-9A42-B0E0FDF8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105-E78F-4454-907C-3B78C24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7AC-32C2-4BF7-9FFB-8E48FD9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3C7-31B8-4F8A-9E0F-B5DE1BC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824-E0CE-4967-B6F4-BE9ABA70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83C-63EC-4EFC-AE27-5AF441E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36D0-B3A7-42B5-982E-F45FFF41FD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urrent Events </a:t>
            </a:r>
            <a:br>
              <a:rPr sz="4400"/>
            </a:b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lectronic Scrapbook Projec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PowerPoint Samples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lide show to demonstrate to students how their final work should l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5075280"/>
            <a:ext cx="81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b5d"/>
                </a:solidFill>
                <a:latin typeface="Comic Sans MS"/>
              </a:rPr>
              <a:t>"I have no color prejudices nor caste prejudices nor creed prejudices. All I care to know is that a man is a human being, and that is enough for me; he can't be any worse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85800" y="518148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6b5d"/>
                </a:solidFill>
                <a:latin typeface="Times New Roman"/>
              </a:rPr>
              <a:t>Pictures from www.pbs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304920" y="388800"/>
            <a:ext cx="86104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1039680"/>
            <a:ext cx="7848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_1730414_sung_ap_150"/>
          <p:cNvPicPr/>
          <p:nvPr/>
        </p:nvPicPr>
        <p:blipFill>
          <a:blip r:embed="rId1"/>
          <a:stretch/>
        </p:blipFill>
        <p:spPr>
          <a:xfrm rot="481200">
            <a:off x="5562360" y="1219320"/>
            <a:ext cx="3127320" cy="3962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1cb"/>
                </a:solidFill>
                <a:latin typeface="Times New Roman"/>
              </a:rPr>
              <a:t>Nuclear Testing</a:t>
            </a:r>
            <a:endParaRPr b="0" lang="en-US" sz="4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 rot="384000">
            <a:off x="4876560" y="5181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m Il 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jimmy_carter"/>
          <p:cNvPicPr/>
          <p:nvPr/>
        </p:nvPicPr>
        <p:blipFill>
          <a:blip r:embed="rId2"/>
          <a:stretch/>
        </p:blipFill>
        <p:spPr>
          <a:xfrm rot="597000">
            <a:off x="685800" y="914400"/>
            <a:ext cx="362916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 rot="562200">
            <a:off x="608760" y="4495320"/>
            <a:ext cx="2895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immy C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676520" y="53341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94 Jimmy Carter and Kim Il Sung negotiated the Agreed Frame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nkorea_nucleartest100"/>
          <p:cNvPicPr/>
          <p:nvPr/>
        </p:nvPicPr>
        <p:blipFill>
          <a:blip r:embed="rId3"/>
          <a:stretch/>
        </p:blipFill>
        <p:spPr>
          <a:xfrm rot="21072600">
            <a:off x="3809520" y="19047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00906_doe"/>
          <p:cNvPicPr/>
          <p:nvPr/>
        </p:nvPicPr>
        <p:blipFill>
          <a:blip r:embed="rId1"/>
          <a:stretch/>
        </p:blipFill>
        <p:spPr>
          <a:xfrm rot="609600">
            <a:off x="4267080" y="1295280"/>
            <a:ext cx="4419720" cy="3597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895480" y="4419720"/>
            <a:ext cx="49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orth Korea Nuclear Tes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9" name="Picture 5" descr="_161767_kor_missile_route300"/>
          <p:cNvPicPr/>
          <p:nvPr/>
        </p:nvPicPr>
        <p:blipFill>
          <a:blip r:embed="rId2"/>
          <a:stretch/>
        </p:blipFill>
        <p:spPr>
          <a:xfrm rot="20950800">
            <a:off x="685800" y="1371240"/>
            <a:ext cx="3238560" cy="2298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north-korea-missile"/>
          <p:cNvPicPr/>
          <p:nvPr/>
        </p:nvPicPr>
        <p:blipFill>
          <a:blip r:embed="rId3"/>
          <a:stretch/>
        </p:blipFill>
        <p:spPr>
          <a:xfrm rot="442800">
            <a:off x="2895120" y="2819160"/>
            <a:ext cx="2362320" cy="204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28600" y="57150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pite an already shaky relationship between the two countries, the situation worsens in the early 199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80880" y="878040"/>
            <a:ext cx="830592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8:06Z</dcterms:created>
  <dc:creator>blacka</dc:creator>
  <dc:description/>
  <dc:language>en-US</dc:language>
  <cp:lastModifiedBy>Michael</cp:lastModifiedBy>
  <dcterms:modified xsi:type="dcterms:W3CDTF">2017-07-20T00:16:15Z</dcterms:modified>
  <cp:revision>6</cp:revision>
  <dc:subject/>
  <dc:title>Slide 1</dc:title>
</cp:coreProperties>
</file>